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855-323D-43A6-8036-9F0874D3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348-9221-4F5C-B67A-F8A3D248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BCE-E93F-40C2-B46B-73298E78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72E-B851-46BF-8E0F-1C64A400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B007-AC0B-4B37-BC0E-5A66BE3C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B5F2-759C-4FD5-8EED-A212E390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C114-286D-47E6-B14E-53963641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008C-348C-409C-A1F6-B8AAF0E9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1265-CF52-45D8-9D32-00CF04BF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97E7-9EF2-4F9C-AF1D-095D86FD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F9CC-073A-4C2E-A521-52735ACE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116-FDAE-4BD0-99D5-ED879AF4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7F81-1F0E-4D44-BA06-2A7263A9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8E5E-6F22-47F4-A868-6B8511C2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E019-BDB0-4D62-8B03-D7209258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7D88-A7B3-4834-A310-F69E7864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DA61-6BD0-47F5-834E-2E877ABD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32F-50F5-43E1-AA24-F86F4410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D0E-B7BF-4A1B-9A8D-794CCAD2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AFC-1E4C-46F7-994C-0F5463B2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2DC-6F53-4360-B93E-2199BD10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EB4-58DA-439C-929E-646C9153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4A2-07C8-441B-B028-A03D54FD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FA4-696E-49B1-896B-40B59B5D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91EF-C2ED-4711-BF1C-F804180FB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71A3-3F92-4B0F-9BC0-F491E3005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uter Bas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many types of computers includ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utput Dev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43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utput basically means getting data out of the compu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066680" y="297180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a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ph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5029200" y="2514600"/>
          <a:ext cx="32767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514600"/>
                    <a:ext cx="3276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orage Dev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272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orage devices are both input and output devices in one.  A storage device is a place to keep data that has been processed so that it can be retrieved at a later time to be used agai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066680" y="4419720"/>
            <a:ext cx="609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 Di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ppy Di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’s, DVD’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gnetic Ta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sh Memory, Jump Dr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is the programs and applications that tell the computer what to do and how to loo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programmers write the codes/instructions that make-up software applications/progra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TML is a type of computer programming language that allows programmers to make web pag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next 2 slides show what HTML codes look like and the web page the codes produ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609480" y="192240"/>
          <a:ext cx="8153640" cy="61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2240"/>
                    <a:ext cx="8153640" cy="61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4"/>
          <p:cNvGraphicFramePr/>
          <p:nvPr/>
        </p:nvGraphicFramePr>
        <p:xfrm>
          <a:off x="609480" y="166680"/>
          <a:ext cx="8077320" cy="61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6680"/>
                    <a:ext cx="8077320" cy="61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 Types of 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ting System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5433840" y="1900080"/>
          <a:ext cx="2343240" cy="17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3840" y="1900080"/>
                    <a:ext cx="234324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5315040" y="4129200"/>
          <a:ext cx="258120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5040" y="4129200"/>
                    <a:ext cx="25812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perating System 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s all the activities and sets all the rules for how the hardware and software will work togeth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mples would b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S, Windows 95, 98, ME, NT, X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x, Linux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C system OS 6,7,8,9,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mand Line Operating System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S is an example of a command line operating sys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 the next slide, Notice that there are n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cons (pictur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use Poin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t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have to memorize commands in order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use this text based operating sys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4"/>
          <p:cNvGraphicFramePr/>
          <p:nvPr/>
        </p:nvGraphicFramePr>
        <p:xfrm>
          <a:off x="609480" y="171360"/>
          <a:ext cx="8001000" cy="604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1360"/>
                    <a:ext cx="8001000" cy="604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perating Systems: GU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UI stands for Graphical User Interf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pictures (icons) to represent files, folder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 drives, modems, printer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’s were created to make using a compute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sier, more interesting, non-threatening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experienced us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ouse allows users to point at something an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make it work.  With command lin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have to have all of the commands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your programs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e is an example of a GU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Comput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percomputers...are used to process very large amounts of information including processing information to predict hurricanes, satellite images and navigation, and process military war scenario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inframes...are used by government and businesses to process very large amounts of inform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ini-Computers...are similar to mainframes...they are used by business and government to process large amounts of inform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ersonal Computers (PC)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4"/>
          <p:cNvGraphicFramePr/>
          <p:nvPr/>
        </p:nvGraphicFramePr>
        <p:xfrm>
          <a:off x="228600" y="380880"/>
          <a:ext cx="8686800" cy="59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68680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 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grams that work with operating system software to help the computer to do specific types of work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 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are six basic types of application software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 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software: word processors, spreadsheets, and database progra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cation software: allows computers to communicate with other computers: fax software, Novell NetWare, AOL, Modem Softwa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ics software: software that allows users to create and manipulate graphics...Photoshop, Print Shop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 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ion and Reference software: Programs that help teach new material and ideas, and programs that can be used to find information...Encarta, Worldbook Encyclopedia, Jumpstart Kindergarten, MicroTyp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tainment and Leisure software...Warcraft, Age of Empires, Barbie Design Center, Mrs.  Pacman, Solit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oftware: Combines several types of software into one program or package...Quicken (Spreadsheet/data base/communications/reference) or Print Shop (Graphics/Word processo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467000" y="1809720"/>
          <a:ext cx="212400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1809720"/>
                    <a:ext cx="212400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6"/>
          <p:cNvGraphicFramePr/>
          <p:nvPr/>
        </p:nvGraphicFramePr>
        <p:xfrm>
          <a:off x="5576760" y="1752480"/>
          <a:ext cx="20574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6760" y="1752480"/>
                    <a:ext cx="2057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9"/>
          <p:cNvGraphicFramePr/>
          <p:nvPr/>
        </p:nvGraphicFramePr>
        <p:xfrm>
          <a:off x="1447920" y="4038480"/>
          <a:ext cx="2004840" cy="200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038480"/>
                    <a:ext cx="20048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2"/>
          <p:cNvGraphicFramePr/>
          <p:nvPr/>
        </p:nvGraphicFramePr>
        <p:xfrm>
          <a:off x="5238720" y="3962520"/>
          <a:ext cx="2732040" cy="20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38720" y="3962520"/>
                    <a:ext cx="2732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Comput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sonal Computers (Continue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sonal Computers...also known as PC’s...are smaller and less powerful than the others.  They are used in homes, schools, and small business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Comput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 are 3 main types of P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kto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rtable (Notebook/Laptop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portable (notebook/laptop) computers were first created they were HUGE.  They weighed around 100 lbs., and were carried in a large luggage suitcase.  The creators of the portable (notebook/laptop) computer dreamed that one day it would be the size a notebook or pocket dictionary.  With today’s technology, we have been able to accomplish this goal and more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and-He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7315200" y="380880"/>
          <a:ext cx="14349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80880"/>
                    <a:ext cx="14349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43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network is a group of computers that share information and hardw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mputers are connected together using copper phone wires, fiber optic cables, or radio wav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r computers are on a network here at school...Look under the table and see the blue wires that connect your computer to the networ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ternet is many networks around the world that are all connected together to make 1 huge networ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5867280" y="228600"/>
          <a:ext cx="12956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8600"/>
                    <a:ext cx="1295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7543800" y="233280"/>
          <a:ext cx="1371600" cy="12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233280"/>
                    <a:ext cx="137160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rts of a Compu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15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two basic parts that make up a computer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990720" y="3657600"/>
          <a:ext cx="20574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657600"/>
                    <a:ext cx="2057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4"/>
          <p:cNvSpPr/>
          <p:nvPr/>
        </p:nvSpPr>
        <p:spPr>
          <a:xfrm>
            <a:off x="1143000" y="281952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638680" y="28195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Object 8"/>
          <p:cNvGraphicFramePr/>
          <p:nvPr/>
        </p:nvGraphicFramePr>
        <p:xfrm>
          <a:off x="5334120" y="3657600"/>
          <a:ext cx="213336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657600"/>
                    <a:ext cx="2133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rdware is basically anything that you can touch with your finger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914400" y="2743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PU (central processing unit...Pentium chi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board &amp; M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 Drive, Zip Drive, CD-ROM, DVD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d   Dr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ory (RA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a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ardware (Continue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three types/categories of hard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14400" y="30481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.  Input De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.  Output De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.  Storage De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5105520" y="2752560"/>
          <a:ext cx="3733560" cy="28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752560"/>
                    <a:ext cx="3733560" cy="28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put Dev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67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put basically means getting data into the computer to be process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90720" y="2895480"/>
            <a:ext cx="419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board, Mous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ball, Touch P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 Pen, Laser Scanner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ing St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uch Screen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r Code Reader, Scan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phone, Joyst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5181480" y="2895480"/>
          <a:ext cx="358164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895480"/>
                    <a:ext cx="358164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20:35:03Z</dcterms:created>
  <dc:creator>Tech Tech</dc:creator>
  <dc:description/>
  <dc:language>en-US</dc:language>
  <cp:lastModifiedBy>Jeff Hinton</cp:lastModifiedBy>
  <dcterms:modified xsi:type="dcterms:W3CDTF">2009-06-16T04:53:02Z</dcterms:modified>
  <cp:revision>28</cp:revision>
  <dc:subject/>
  <dc:title>Computer Basics</dc:title>
</cp:coreProperties>
</file>